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604-BFAA-4FE8-8FF2-6B436A2B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04C-C831-4D36-9FA5-8A197CC8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0CF3-3180-4D30-A59D-8CF7E012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91B-94A7-4D4E-B970-78252A4F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998-952B-4BC2-ACB1-63F36C4B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5F9-41ED-4011-9D48-CFBEC9BD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2B3-3403-49A6-B84C-370A285F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60D-8FE8-4457-82A1-4A1ACB8D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A50-54A5-4E04-B6A3-74C6099C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BD5-950D-4D4C-AAF3-8F1DF1EA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960-A823-44E6-A73A-3DB5D953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13E-22CD-46A0-AD65-F1D576FB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486C-9653-40F3-BD51-B14B0D4C6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97180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laine aux pie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838080" y="1295280"/>
            <a:ext cx="75438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lain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vre le dos et les br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a les bout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219320" y="2362320"/>
            <a:ext cx="670536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vre le co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295280" y="2057400"/>
            <a:ext cx="6477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type de blou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 faire du sk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E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838080" y="1447920"/>
            <a:ext cx="73915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nei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219320" y="914400"/>
            <a:ext cx="70866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fem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or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s évenn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écia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143000" y="1143000"/>
            <a:ext cx="69343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habitu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quelle mati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les chaussur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914400" y="1066680"/>
            <a:ext cx="708660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femmes  ne portent p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hausset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x évennements spéciaux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s portent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990720" y="1371600"/>
            <a:ext cx="74674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femme l’utili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porter le portabl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ortefeuille, le maquillage, et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066680" y="259092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fait fro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our du cou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un peu lo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914400" y="1143000"/>
            <a:ext cx="73915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a tête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très élégant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219320" y="1066680"/>
            <a:ext cx="70102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voi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le he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-i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447920" y="1828800"/>
            <a:ext cx="65530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qu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antal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 tombe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523880" y="1676520"/>
            <a:ext cx="60962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nag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371600" y="1828800"/>
            <a:ext cx="64771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couvr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y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219320" y="1066680"/>
            <a:ext cx="67053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typ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e-shi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ns manch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143000" y="1066680"/>
            <a:ext cx="67057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a tê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voir un mat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baseba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990720" y="1828800"/>
            <a:ext cx="64767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fait les costu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ce tissu en été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Mais il faut faire le repass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équemment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066680" y="1066680"/>
            <a:ext cx="72392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veste et un pantal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les hom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r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x pie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066680" y="838080"/>
            <a:ext cx="723924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ju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une ves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une femme por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295280" y="1371600"/>
            <a:ext cx="67820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un pantalon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…. blanc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914400" y="990720"/>
            <a:ext cx="7238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hom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or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our du co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838080" y="1143000"/>
            <a:ext cx="76201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coton  ou de soi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équemment avec les bout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femme le porte avec une ju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676520" y="1523880"/>
            <a:ext cx="5715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371600" y="2514600"/>
            <a:ext cx="5791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l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371600" y="2895480"/>
            <a:ext cx="57913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295280" y="2438280"/>
            <a:ext cx="62485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a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905120" y="2743200"/>
            <a:ext cx="5257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e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295280" y="2590920"/>
            <a:ext cx="6705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oi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on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n opin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motif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sty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066680" y="1295280"/>
            <a:ext cx="701064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 aim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ich one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n opinion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otf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ty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u aimes?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066680" y="1447920"/>
            <a:ext cx="70866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ce Kel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éri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914400" y="182880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fait chau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ng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mauva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û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066680" y="1219320"/>
            <a:ext cx="723924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icile à regarder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op de décoration!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066680" y="1066680"/>
            <a:ext cx="70866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 des crava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éfères-tu? (1)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143000" y="1219320"/>
            <a:ext cx="68580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 des chauss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éfères-tu?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523880" y="1371600"/>
            <a:ext cx="65534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____des pantal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éfèrent-elles?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 rob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imes-tu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066680" y="1219320"/>
            <a:ext cx="723924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s gile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imes-tu mieux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_-là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do you fi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pair of shor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90720" y="2590920"/>
            <a:ext cx="6858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une fê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523880" y="2819520"/>
            <a:ext cx="5943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’t you like th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nda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066680" y="1219320"/>
            <a:ext cx="70866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es it please you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mini-skir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219320" y="1143000"/>
            <a:ext cx="67053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do you think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se boo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990720" y="990720"/>
            <a:ext cx="73152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do you thin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m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447920" y="1676520"/>
            <a:ext cx="670536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Pet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rc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914400" y="1143000"/>
            <a:ext cx="74674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des lig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rizont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 vertic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981080" y="2362320"/>
            <a:ext cx="5257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de pet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276720" y="3505320"/>
            <a:ext cx="23619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990720" y="1371600"/>
            <a:ext cx="7086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des fleur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 exe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066680" y="1143000"/>
            <a:ext cx="72392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’intersection des  carreaux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des lignes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l’hérit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 pays celt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914400" y="1066680"/>
            <a:ext cx="73915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patte d’eph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 sandale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heveux long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2819520"/>
            <a:ext cx="5257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tiss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066680" y="990720"/>
            <a:ext cx="70866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heveux à la Mohawk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débardeur et un jean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blouson en cu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990720" y="990720"/>
            <a:ext cx="70866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short long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tee-shirt et une chemise écossais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casquette à l’env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1295280" y="1219320"/>
            <a:ext cx="67820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costume, une cravat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 un pull sur les épa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838080" y="1066680"/>
            <a:ext cx="75438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ty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P. Did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85800" y="1066680"/>
            <a:ext cx="77724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find 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eat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I think it’s great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 pleas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 a lo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990720" y="1143000"/>
            <a:ext cx="72388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look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lly stupid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295280" y="1828800"/>
            <a:ext cx="6324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boot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1066680" y="1219320"/>
            <a:ext cx="70866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find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y look ol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295280" y="3962520"/>
            <a:ext cx="6477120" cy="21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Traduction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l fait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roi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ux pied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ccessoi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l fai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u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êt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7724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issu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 like th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olka- dot one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(dress)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’aime cel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À pois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312408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es m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4-02-08T15:48:29Z</dcterms:modified>
  <cp:revision>59</cp:revision>
  <dc:subject/>
  <dc:title>No Slide Title</dc:title>
</cp:coreProperties>
</file>